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5440" cy="993924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46">
                <a:moveTo>
                  <a:pt x="4" y="0"/>
                </a:moveTo>
                <a:arcTo wR="4" hR="4" stAng="16200000" swAng="-5400000"/>
                <a:lnTo>
                  <a:pt x="0" y="31542"/>
                </a:lnTo>
                <a:arcTo wR="4" hR="4" stAng="10800000" swAng="-5400000"/>
                <a:lnTo>
                  <a:pt x="21596" y="3154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5440" cy="993924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46">
                <a:moveTo>
                  <a:pt x="4" y="0"/>
                </a:moveTo>
                <a:arcTo wR="4" hR="4" stAng="16200000" swAng="-5400000"/>
                <a:lnTo>
                  <a:pt x="0" y="31542"/>
                </a:lnTo>
                <a:arcTo wR="4" hR="4" stAng="10800000" swAng="-5400000"/>
                <a:lnTo>
                  <a:pt x="21596" y="3154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385452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917280" y="745920"/>
            <a:ext cx="496548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721040"/>
            <a:ext cx="5443560" cy="446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424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2"/>
          </p:nvPr>
        </p:nvSpPr>
        <p:spPr>
          <a:xfrm>
            <a:off x="3854520" y="94420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6CD79024-8185-452F-96CD-CA3ED25EF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54520" y="94424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809C68EC-8580-467C-A6D5-11C6EB052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50760" y="746280"/>
            <a:ext cx="49039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5360" cy="45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854520" y="94424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646B69FD-FB6C-4159-AA34-F1DD53063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54520" y="94424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FB99F13A-39E6-4A28-B47D-8AD8D97F3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50760" y="746280"/>
            <a:ext cx="49039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5360" cy="45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54520" y="94424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944EAC80-836D-48EA-BB3B-BC5B3B3BC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65977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08000" y="6381720"/>
            <a:ext cx="6462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280e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N:\電子データ待避（H21.4.9）\無題.JPG"/>
          <p:cNvPicPr/>
          <p:nvPr/>
        </p:nvPicPr>
        <p:blipFill>
          <a:blip r:embed="rId1"/>
          <a:stretch/>
        </p:blipFill>
        <p:spPr>
          <a:xfrm>
            <a:off x="6477120" y="357120"/>
            <a:ext cx="2381040" cy="588960"/>
          </a:xfrm>
          <a:prstGeom prst="rect">
            <a:avLst/>
          </a:prstGeom>
          <a:ln w="0">
            <a:noFill/>
          </a:ln>
        </p:spPr>
      </p:pic>
      <p:sp>
        <p:nvSpPr>
          <p:cNvPr id="51" name="正方形/長方形 13"/>
          <p:cNvSpPr/>
          <p:nvPr/>
        </p:nvSpPr>
        <p:spPr>
          <a:xfrm>
            <a:off x="4572000" y="928800"/>
            <a:ext cx="4357800" cy="392904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0" y="252360"/>
            <a:ext cx="6629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ジャイロセンサ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旋回制御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群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富士重工業株式会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800600" y="4952880"/>
            <a:ext cx="41292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連絡先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富士重工業株式会社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戦略本部　クリーンロボット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　青山　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20-856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栃木県宇都宮市陽南１－１－１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8-684-78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8-684-7815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mail:AoyamaH@utu.subaru-fhi.co.j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1066680"/>
            <a:ext cx="464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概要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ジャイロセンサから，ロボットの角度デー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を入力し，目標とする方向に修正するよ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に左右の駆動輪の速度を出力し旋回制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特徴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カム曲線制御により、オーバーシュー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を防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富士重工業㈱の清掃ロボット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機能・性能を実証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他の差動操舵型移動ロボットに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適用可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インタフェー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入力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ジャイロセンサからの角度デー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を入力する。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-232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出力：駆動輪の速度データを出力する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RTM-aist-0.4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ライセンス（公開条件）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著作権は富士重工業㈱が有する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有償により提供する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214960" y="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次世代知能化技術開発プロジェク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000760" y="6215040"/>
            <a:ext cx="392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第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版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.7.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作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Object 16"/>
          <p:cNvGraphicFramePr/>
          <p:nvPr/>
        </p:nvGraphicFramePr>
        <p:xfrm>
          <a:off x="4724280" y="1143000"/>
          <a:ext cx="243864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143000"/>
                    <a:ext cx="2438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17" descr="uvs090401-002"/>
          <p:cNvPicPr/>
          <p:nvPr/>
        </p:nvPicPr>
        <p:blipFill>
          <a:blip r:embed="rId4"/>
          <a:stretch/>
        </p:blipFill>
        <p:spPr>
          <a:xfrm>
            <a:off x="6324480" y="3124080"/>
            <a:ext cx="2438640" cy="16257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1"/>
          <p:cNvSpPr/>
          <p:nvPr/>
        </p:nvSpPr>
        <p:spPr>
          <a:xfrm>
            <a:off x="7238880" y="16002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富士重工業の清掃ロボット実証試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テキスト ボックス 12"/>
          <p:cNvSpPr/>
          <p:nvPr/>
        </p:nvSpPr>
        <p:spPr>
          <a:xfrm>
            <a:off x="4714920" y="363996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産総研「ビーゴ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て実証試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14200" y="3857760"/>
            <a:ext cx="335772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放された広い場所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移動するのに有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空港，ビルのロビー等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高精度の直進走行が可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457200" y="2858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・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構成図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34"/>
          <p:cNvGrpSpPr/>
          <p:nvPr/>
        </p:nvGrpSpPr>
        <p:grpSpPr>
          <a:xfrm>
            <a:off x="880920" y="857160"/>
            <a:ext cx="7620120" cy="2666880"/>
            <a:chOff x="880920" y="857160"/>
            <a:chExt cx="7620120" cy="2666880"/>
          </a:xfrm>
        </p:grpSpPr>
        <p:sp>
          <p:nvSpPr>
            <p:cNvPr id="65" name="Text Box 35"/>
            <p:cNvSpPr/>
            <p:nvPr/>
          </p:nvSpPr>
          <p:spPr>
            <a:xfrm>
              <a:off x="880920" y="2000160"/>
              <a:ext cx="1371600" cy="1008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ジャイロ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センサ</a:t>
              </a:r>
              <a:br>
                <a:rPr sz="1200"/>
              </a:br>
              <a:r>
                <a:rPr b="0" lang="ja-JP" sz="12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（富士重工業で使用のもの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36"/>
            <p:cNvSpPr/>
            <p:nvPr/>
          </p:nvSpPr>
          <p:spPr>
            <a:xfrm>
              <a:off x="3540240" y="1419120"/>
              <a:ext cx="2693880" cy="19666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制御装置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拡張ボード実装可能なパソコン又は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RT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専用ボー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を想定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OS:Lin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開発言語：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＋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37"/>
            <p:cNvSpPr/>
            <p:nvPr/>
          </p:nvSpPr>
          <p:spPr>
            <a:xfrm>
              <a:off x="7081920" y="2020680"/>
              <a:ext cx="914400" cy="538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モータ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ドライバ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38"/>
            <p:cNvSpPr/>
            <p:nvPr/>
          </p:nvSpPr>
          <p:spPr>
            <a:xfrm>
              <a:off x="7548480" y="25542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39"/>
            <p:cNvSpPr/>
            <p:nvPr/>
          </p:nvSpPr>
          <p:spPr>
            <a:xfrm>
              <a:off x="7053120" y="3039840"/>
              <a:ext cx="1095480" cy="343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駆動モータ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40"/>
            <p:cNvSpPr/>
            <p:nvPr/>
          </p:nvSpPr>
          <p:spPr>
            <a:xfrm>
              <a:off x="6624720" y="1314360"/>
              <a:ext cx="18763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ＭＳ ゴシック"/>
                <a:buChar char="※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ロボットごとの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　　ハードウェアに依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41"/>
            <p:cNvSpPr/>
            <p:nvPr/>
          </p:nvSpPr>
          <p:spPr>
            <a:xfrm>
              <a:off x="3929040" y="857160"/>
              <a:ext cx="171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入力・演算・出力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42"/>
            <p:cNvSpPr/>
            <p:nvPr/>
          </p:nvSpPr>
          <p:spPr>
            <a:xfrm>
              <a:off x="3367080" y="1268280"/>
              <a:ext cx="28440" cy="2255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43"/>
            <p:cNvSpPr/>
            <p:nvPr/>
          </p:nvSpPr>
          <p:spPr>
            <a:xfrm>
              <a:off x="6648480" y="1314360"/>
              <a:ext cx="14400" cy="2209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44"/>
            <p:cNvSpPr/>
            <p:nvPr/>
          </p:nvSpPr>
          <p:spPr>
            <a:xfrm>
              <a:off x="2290680" y="2431800"/>
              <a:ext cx="12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Line 45"/>
            <p:cNvSpPr/>
            <p:nvPr/>
          </p:nvSpPr>
          <p:spPr>
            <a:xfrm>
              <a:off x="6230880" y="2304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46"/>
            <p:cNvSpPr/>
            <p:nvPr/>
          </p:nvSpPr>
          <p:spPr>
            <a:xfrm>
              <a:off x="3624120" y="2724120"/>
              <a:ext cx="685800" cy="5713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入力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ﾓｼﾞｭｰﾙ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47"/>
            <p:cNvSpPr/>
            <p:nvPr/>
          </p:nvSpPr>
          <p:spPr>
            <a:xfrm>
              <a:off x="4538520" y="2724120"/>
              <a:ext cx="685800" cy="5713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演算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ﾓｼﾞｭｰﾙ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48"/>
            <p:cNvSpPr/>
            <p:nvPr/>
          </p:nvSpPr>
          <p:spPr>
            <a:xfrm>
              <a:off x="5452920" y="2724120"/>
              <a:ext cx="685800" cy="5713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出力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ﾓｼﾞｭｰﾙ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ext Box 49"/>
            <p:cNvSpPr/>
            <p:nvPr/>
          </p:nvSpPr>
          <p:spPr>
            <a:xfrm>
              <a:off x="1643040" y="85716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セン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 Box 50"/>
            <p:cNvSpPr/>
            <p:nvPr/>
          </p:nvSpPr>
          <p:spPr>
            <a:xfrm>
              <a:off x="6558120" y="85716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駆動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AutoShape 51"/>
            <p:cNvSpPr/>
            <p:nvPr/>
          </p:nvSpPr>
          <p:spPr>
            <a:xfrm>
              <a:off x="4346640" y="2952720"/>
              <a:ext cx="114120" cy="234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52"/>
            <p:cNvSpPr/>
            <p:nvPr/>
          </p:nvSpPr>
          <p:spPr>
            <a:xfrm>
              <a:off x="5280120" y="2931840"/>
              <a:ext cx="114120" cy="236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53"/>
            <p:cNvSpPr/>
            <p:nvPr/>
          </p:nvSpPr>
          <p:spPr>
            <a:xfrm>
              <a:off x="2252520" y="1893600"/>
              <a:ext cx="117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シリアル信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RS-232C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正方形/長方形 23"/>
          <p:cNvSpPr/>
          <p:nvPr/>
        </p:nvSpPr>
        <p:spPr>
          <a:xfrm>
            <a:off x="3643200" y="3643200"/>
            <a:ext cx="5286600" cy="2786040"/>
          </a:xfrm>
          <a:prstGeom prst="rect">
            <a:avLst/>
          </a:prstGeom>
          <a:solidFill>
            <a:srgbClr val="cc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テキスト ボックス 24"/>
          <p:cNvSpPr/>
          <p:nvPr/>
        </p:nvSpPr>
        <p:spPr>
          <a:xfrm>
            <a:off x="3714840" y="3672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・適用事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1" descr="N:\電子データ待避（H21.4.9）\無題.JPG"/>
          <p:cNvPicPr/>
          <p:nvPr/>
        </p:nvPicPr>
        <p:blipFill>
          <a:blip r:embed="rId1"/>
          <a:stretch/>
        </p:blipFill>
        <p:spPr>
          <a:xfrm>
            <a:off x="6477120" y="285840"/>
            <a:ext cx="2381040" cy="58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森ビル"/>
          <p:cNvPicPr/>
          <p:nvPr/>
        </p:nvPicPr>
        <p:blipFill>
          <a:blip r:embed="rId2"/>
          <a:stretch/>
        </p:blipFill>
        <p:spPr>
          <a:xfrm>
            <a:off x="3786120" y="4195800"/>
            <a:ext cx="2374920" cy="1876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SC00014"/>
          <p:cNvPicPr/>
          <p:nvPr/>
        </p:nvPicPr>
        <p:blipFill>
          <a:blip r:embed="rId3"/>
          <a:stretch/>
        </p:blipFill>
        <p:spPr>
          <a:xfrm>
            <a:off x="6286680" y="4206960"/>
            <a:ext cx="2484360" cy="186516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28"/>
          <p:cNvSpPr/>
          <p:nvPr/>
        </p:nvSpPr>
        <p:spPr>
          <a:xfrm>
            <a:off x="4071960" y="615312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六本木ヒルズ森ビ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テキスト ボックス 28"/>
          <p:cNvSpPr/>
          <p:nvPr/>
        </p:nvSpPr>
        <p:spPr>
          <a:xfrm>
            <a:off x="8001000" y="615312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2:47Z</dcterms:created>
  <dc:creator>Tetsuo KOTOKU</dc:creator>
  <dc:description/>
  <dc:language>en-US</dc:language>
  <cp:lastModifiedBy>AoyamaH</cp:lastModifiedBy>
  <dcterms:modified xsi:type="dcterms:W3CDTF">2009-07-21T08:50:14Z</dcterms:modified>
  <cp:revision>56</cp:revision>
  <dc:subject/>
  <dc:title>スライド 1</dc:title>
</cp:coreProperties>
</file>