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4" y="0"/>
                </a:moveTo>
                <a:arcTo wR="4" hR="4" stAng="16200000" swAng="-5400000"/>
                <a:lnTo>
                  <a:pt x="0" y="31542"/>
                </a:lnTo>
                <a:arcTo wR="4" hR="4" stAng="10800000" swAng="-5400000"/>
                <a:lnTo>
                  <a:pt x="21596" y="3154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4" y="0"/>
                </a:moveTo>
                <a:arcTo wR="4" hR="4" stAng="16200000" swAng="-5400000"/>
                <a:lnTo>
                  <a:pt x="0" y="31542"/>
                </a:lnTo>
                <a:arcTo wR="4" hR="4" stAng="10800000" swAng="-5400000"/>
                <a:lnTo>
                  <a:pt x="21596" y="3154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385452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7280" y="745920"/>
            <a:ext cx="49654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721040"/>
            <a:ext cx="5443560" cy="446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3854520" y="94420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40F8F7E9-02B7-41E5-9BE0-8927B1F69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3854520" y="94424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047B6CF3-D2CA-4E18-94E8-E3165A246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950760" y="746280"/>
            <a:ext cx="49039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536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5452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0D52865A-5517-477E-8A64-F06E79B09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54520" y="94424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47B79B06-A736-4420-87D0-1EA03CE22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50760" y="746280"/>
            <a:ext cx="49039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536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5452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6880"/>
                <a:tab algn="l" pos="1300320"/>
                <a:tab algn="l" pos="1733400"/>
                <a:tab algn="l" pos="2166840"/>
                <a:tab algn="l" pos="2602080"/>
                <a:tab algn="l" pos="3035160"/>
                <a:tab algn="l" pos="3468600"/>
                <a:tab algn="l" pos="3902040"/>
                <a:tab algn="l" pos="4336920"/>
                <a:tab algn="l" pos="4770360"/>
                <a:tab algn="l" pos="5203800"/>
                <a:tab algn="l" pos="5638680"/>
                <a:tab algn="l" pos="6072120"/>
                <a:tab algn="l" pos="6505560"/>
                <a:tab algn="l" pos="6939000"/>
                <a:tab algn="l" pos="7373880"/>
                <a:tab algn="l" pos="7807320"/>
                <a:tab algn="l" pos="8240760"/>
                <a:tab algn="l" pos="86756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1B1C1CBD-8DCC-4AC6-ABE1-EFE7BC0D6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5977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12"/>
          <p:cNvSpPr/>
          <p:nvPr/>
        </p:nvSpPr>
        <p:spPr>
          <a:xfrm>
            <a:off x="4876920" y="928800"/>
            <a:ext cx="3981240" cy="40003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0" y="25236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ジャイロセンサ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直進制御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群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富士重工業株式会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76920" y="4952880"/>
            <a:ext cx="4052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富士重工業株式会社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戦略本部　クリーンロボット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青山　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20-856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栃木県宇都宮市陽南１－１－１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8-684-78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8-684-781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mail:AoyamaH@utu.subaru-fhi.co.j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28600" y="1295280"/>
            <a:ext cx="4657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ジャイロセンサから，ロボットの角度デ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タを入力し，目標とする方向に修正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ように左右の駆動輪の速度を出力し直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進行制御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インフラが少なく、低コストで導入可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富士重工業㈱の清掃ロボット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機能・性能を実証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他の差動操舵型移動ロボットに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適用可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入力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ジャイロセンサからの角度データ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入力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-232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出力：駆動輪の速度データを出力する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RTM-aist-0.4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作権は富士重工業㈱が有す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有償による提供とす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214960" y="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次世代知能化技術開発プロジェク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000760" y="6215040"/>
            <a:ext cx="392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第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版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.7.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1" descr="N:\電子データ待避（H21.4.9）\無題.JPG"/>
          <p:cNvPicPr/>
          <p:nvPr/>
        </p:nvPicPr>
        <p:blipFill>
          <a:blip r:embed="rId1"/>
          <a:stretch/>
        </p:blipFill>
        <p:spPr>
          <a:xfrm>
            <a:off x="6762600" y="304920"/>
            <a:ext cx="238140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16"/>
          <p:cNvGraphicFramePr/>
          <p:nvPr/>
        </p:nvGraphicFramePr>
        <p:xfrm>
          <a:off x="5029200" y="1143000"/>
          <a:ext cx="2438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143000"/>
                    <a:ext cx="2438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17" descr="uvs090401-002"/>
          <p:cNvPicPr/>
          <p:nvPr/>
        </p:nvPicPr>
        <p:blipFill>
          <a:blip r:embed="rId4"/>
          <a:stretch/>
        </p:blipFill>
        <p:spPr>
          <a:xfrm>
            <a:off x="6324480" y="3124080"/>
            <a:ext cx="2438640" cy="1625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7467480" y="18288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富士重工業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清掃ロボットで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証試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105520" y="36576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産総研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ビーゴ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て実証試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85840" y="4100400"/>
            <a:ext cx="3581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放された広い場所を移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するのに有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空港，ビルのロビー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高精度の直進走行が可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457200" y="4287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・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構成図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34"/>
          <p:cNvGrpSpPr/>
          <p:nvPr/>
        </p:nvGrpSpPr>
        <p:grpSpPr>
          <a:xfrm>
            <a:off x="614520" y="857160"/>
            <a:ext cx="8143200" cy="2714400"/>
            <a:chOff x="614520" y="857160"/>
            <a:chExt cx="8143200" cy="2714400"/>
          </a:xfrm>
        </p:grpSpPr>
        <p:sp>
          <p:nvSpPr>
            <p:cNvPr id="65" name="Text Box 35"/>
            <p:cNvSpPr/>
            <p:nvPr/>
          </p:nvSpPr>
          <p:spPr>
            <a:xfrm>
              <a:off x="614520" y="2020320"/>
              <a:ext cx="1465560" cy="1026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ジャイロ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センサ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（富士重工業で使用のもの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36"/>
            <p:cNvSpPr/>
            <p:nvPr/>
          </p:nvSpPr>
          <p:spPr>
            <a:xfrm>
              <a:off x="3456360" y="1429200"/>
              <a:ext cx="2878560" cy="20019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制御装置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拡張ボード実装可能なパソコン又は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RT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専用ボー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を想定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OS:Lin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開発言語：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37"/>
            <p:cNvSpPr/>
            <p:nvPr/>
          </p:nvSpPr>
          <p:spPr>
            <a:xfrm>
              <a:off x="7241400" y="2041560"/>
              <a:ext cx="977040" cy="547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モー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ドライバ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740000" y="258444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39"/>
            <p:cNvSpPr/>
            <p:nvPr/>
          </p:nvSpPr>
          <p:spPr>
            <a:xfrm>
              <a:off x="7210440" y="3078720"/>
              <a:ext cx="1170720" cy="349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駆動モー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40"/>
            <p:cNvSpPr/>
            <p:nvPr/>
          </p:nvSpPr>
          <p:spPr>
            <a:xfrm>
              <a:off x="6752520" y="1322280"/>
              <a:ext cx="200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ＭＳ ゴシック"/>
                <a:buChar char="※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ロボットごとの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　　ハードウェアに依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41"/>
            <p:cNvSpPr/>
            <p:nvPr/>
          </p:nvSpPr>
          <p:spPr>
            <a:xfrm>
              <a:off x="3871800" y="857160"/>
              <a:ext cx="183240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力・演算・出力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42"/>
            <p:cNvSpPr/>
            <p:nvPr/>
          </p:nvSpPr>
          <p:spPr>
            <a:xfrm>
              <a:off x="3271320" y="1275480"/>
              <a:ext cx="30240" cy="2296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43"/>
            <p:cNvSpPr/>
            <p:nvPr/>
          </p:nvSpPr>
          <p:spPr>
            <a:xfrm>
              <a:off x="6778080" y="1322280"/>
              <a:ext cx="15120" cy="2249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44"/>
            <p:cNvSpPr/>
            <p:nvPr/>
          </p:nvSpPr>
          <p:spPr>
            <a:xfrm>
              <a:off x="2120760" y="2459880"/>
              <a:ext cx="132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45"/>
            <p:cNvSpPr/>
            <p:nvPr/>
          </p:nvSpPr>
          <p:spPr>
            <a:xfrm>
              <a:off x="6331680" y="233064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46"/>
            <p:cNvSpPr/>
            <p:nvPr/>
          </p:nvSpPr>
          <p:spPr>
            <a:xfrm>
              <a:off x="3546000" y="2757600"/>
              <a:ext cx="73260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入力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47"/>
            <p:cNvSpPr/>
            <p:nvPr/>
          </p:nvSpPr>
          <p:spPr>
            <a:xfrm>
              <a:off x="4523040" y="2757600"/>
              <a:ext cx="73260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演算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48"/>
            <p:cNvSpPr/>
            <p:nvPr/>
          </p:nvSpPr>
          <p:spPr>
            <a:xfrm>
              <a:off x="5500440" y="2757600"/>
              <a:ext cx="73260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出力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ゴシック"/>
                </a:rPr>
                <a:t>ﾓｼﾞｭｰﾙ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 Box 49"/>
            <p:cNvSpPr/>
            <p:nvPr/>
          </p:nvSpPr>
          <p:spPr>
            <a:xfrm>
              <a:off x="1428840" y="857160"/>
              <a:ext cx="977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セン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 Box 50"/>
            <p:cNvSpPr/>
            <p:nvPr/>
          </p:nvSpPr>
          <p:spPr>
            <a:xfrm>
              <a:off x="6681600" y="857160"/>
              <a:ext cx="977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駆動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51"/>
            <p:cNvSpPr/>
            <p:nvPr/>
          </p:nvSpPr>
          <p:spPr>
            <a:xfrm>
              <a:off x="4318200" y="2990160"/>
              <a:ext cx="121680" cy="238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52"/>
            <p:cNvSpPr/>
            <p:nvPr/>
          </p:nvSpPr>
          <p:spPr>
            <a:xfrm>
              <a:off x="5315760" y="2968920"/>
              <a:ext cx="121680" cy="240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53"/>
            <p:cNvSpPr/>
            <p:nvPr/>
          </p:nvSpPr>
          <p:spPr>
            <a:xfrm>
              <a:off x="2080080" y="1911960"/>
              <a:ext cx="12556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シリアル信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RS-232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55" descr="N:\電子データ待避（H21.4.9）\無題.JPG"/>
          <p:cNvPicPr/>
          <p:nvPr/>
        </p:nvPicPr>
        <p:blipFill>
          <a:blip r:embed="rId1"/>
          <a:stretch/>
        </p:blipFill>
        <p:spPr>
          <a:xfrm>
            <a:off x="6762600" y="304920"/>
            <a:ext cx="2381400" cy="588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4071960" y="3809880"/>
            <a:ext cx="4843440" cy="2438640"/>
          </a:xfrm>
          <a:prstGeom prst="rect">
            <a:avLst/>
          </a:prstGeom>
          <a:solidFill>
            <a:srgbClr val="cc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・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適用事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259840" y="5996160"/>
            <a:ext cx="812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473800" y="5929200"/>
            <a:ext cx="209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東日本　白河研修センタ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9" descr=""/>
          <p:cNvPicPr/>
          <p:nvPr/>
        </p:nvPicPr>
        <p:blipFill>
          <a:blip r:embed="rId2"/>
          <a:stretch/>
        </p:blipFill>
        <p:spPr>
          <a:xfrm>
            <a:off x="4214880" y="424332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"/>
          <p:cNvPicPr/>
          <p:nvPr/>
        </p:nvPicPr>
        <p:blipFill>
          <a:blip r:embed="rId3"/>
          <a:stretch/>
        </p:blipFill>
        <p:spPr>
          <a:xfrm>
            <a:off x="6572160" y="4226040"/>
            <a:ext cx="2271960" cy="170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AoyamaH</cp:lastModifiedBy>
  <dcterms:modified xsi:type="dcterms:W3CDTF">2009-07-21T08:55:05Z</dcterms:modified>
  <cp:revision>52</cp:revision>
  <dc:subject/>
  <dc:title>スライド 1</dc:title>
</cp:coreProperties>
</file>