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F848-9105-477E-9A71-89574891F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9B44-AA81-4BF2-80ED-E6A369B2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9EAF-B2A7-498B-B016-8AF1FDDB8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7712-A49F-4624-8DD6-E1CB522B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0147-E490-4E3F-A868-B5ECE762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2A35-C2FF-42D6-94A1-0F94C03C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AF1A-E1DE-418F-8589-0DB0B418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B368-D95D-4E13-8464-2223B7DF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552C-2F5C-4D66-89F0-92218A39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7F63-48DF-4BB7-A75A-B6660115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FA6D-D9E1-4870-9A93-4C84722C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945E-33F2-41D1-B418-8F758DDB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ECC1-F66E-423B-8775-03E855326BC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2" descr="C:\minho\MARKER\blank_kurihara.gif"/>
          <p:cNvPicPr/>
          <p:nvPr/>
        </p:nvPicPr>
        <p:blipFill>
          <a:blip r:embed="rId1"/>
          <a:stretch/>
        </p:blipFill>
        <p:spPr>
          <a:xfrm>
            <a:off x="3286080" y="2214720"/>
            <a:ext cx="26416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06:10:19Z</dcterms:created>
  <dc:creator>openrtm</dc:creator>
  <dc:description/>
  <dc:language>en-US</dc:language>
  <cp:lastModifiedBy>openrtm</cp:lastModifiedBy>
  <dcterms:modified xsi:type="dcterms:W3CDTF">2010-05-27T09:08:13Z</dcterms:modified>
  <cp:revision>14</cp:revision>
  <dc:subject/>
  <dc:title>スライド 1</dc:title>
</cp:coreProperties>
</file>