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0B15-69BD-439A-AB8C-43BD5D95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E85-028D-4C64-9D55-B768247B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5144-4D26-4280-9226-80F1372A0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BC14-C75E-48A3-989F-6163CEDE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CA7-6AF3-41A2-B73C-4F13E464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CC1-D150-4A79-A31F-84B1A12F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762C-51FE-46D9-850E-FB670960A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DEC4-191A-4499-A4E7-1EE9EA29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422-FF94-4CC3-A6FB-856544FA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36A-BD1A-4D44-BB92-DDFC2FDE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6BC5-10AD-4474-955B-26D21437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CBF3-22C5-4F7E-9F5C-81942177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C5BE-D68A-4194-BCD7-1A56A887C07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minho\MARKER\blankPatt_hrp4c.gif"/>
          <p:cNvPicPr/>
          <p:nvPr/>
        </p:nvPicPr>
        <p:blipFill>
          <a:blip r:embed="rId1"/>
          <a:stretch/>
        </p:blipFill>
        <p:spPr>
          <a:xfrm>
            <a:off x="3143160" y="1928880"/>
            <a:ext cx="28828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6:10:19Z</dcterms:created>
  <dc:creator>openrtm</dc:creator>
  <dc:description/>
  <dc:language>en-US</dc:language>
  <cp:lastModifiedBy>openrtm</cp:lastModifiedBy>
  <dcterms:modified xsi:type="dcterms:W3CDTF">2010-05-28T08:52:43Z</dcterms:modified>
  <cp:revision>16</cp:revision>
  <dc:subject/>
  <dc:title>スライド 1</dc:title>
</cp:coreProperties>
</file>