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C37-2C58-4FA2-A3EB-614D41E1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6A4-1B95-4DDB-8E8E-E06EE1B8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FC1A-2614-4D11-81C6-86143D22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B01-11D3-4B71-A54E-EE7F8D64A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6AE-343C-4818-9405-304127C2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9BB1-AB4A-4F80-85C9-75697971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0F5-E383-4BAE-95EF-A955995D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917-3CBC-460E-8B5C-DC94AC60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7553-3283-43F5-9D36-388D95BA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38B-F7AC-481A-B67F-8941C983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D00-74D4-4019-82C8-681E7EA1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980E-2325-467F-A0A1-36B39746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20E4-C9B6-4B76-8F89-179FB27EF12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C:\minho\MARKER\blankPatt_aist2.gif"/>
          <p:cNvPicPr/>
          <p:nvPr/>
        </p:nvPicPr>
        <p:blipFill>
          <a:blip r:embed="rId1"/>
          <a:stretch/>
        </p:blipFill>
        <p:spPr>
          <a:xfrm>
            <a:off x="3143160" y="2071800"/>
            <a:ext cx="26416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6:10:19Z</dcterms:created>
  <dc:creator>openrtm</dc:creator>
  <dc:description/>
  <dc:language>en-US</dc:language>
  <cp:lastModifiedBy>openrtm</cp:lastModifiedBy>
  <dcterms:modified xsi:type="dcterms:W3CDTF">2010-05-27T07:58:07Z</dcterms:modified>
  <cp:revision>10</cp:revision>
  <dc:subject/>
  <dc:title>スライド 1</dc:title>
</cp:coreProperties>
</file>