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50B-8496-472D-B76F-BB906B14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D3C-882A-4928-8397-C2CDFB55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D33-A14F-4833-AC1C-9AF29324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C7A-B68D-401D-A037-919BB511F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622-F2A5-414D-BCD0-F77ADEBD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417D-981C-45E8-93F1-6871F151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C9F6-F905-4FC7-A8EE-A34C6BE0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CAB-E16B-47EA-87CA-237719FE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5E48-1B29-469E-9D26-4D44FC72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2D9-C07E-4942-B779-C17DC465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A8F1-AAA0-4B3B-AF6A-3C767C1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8CCA-0867-4E8E-900A-93B17B48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FD1E-D334-4687-A9CD-7B93E851EE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minho\MARKER\blankPatt_aist.gif"/>
          <p:cNvPicPr/>
          <p:nvPr/>
        </p:nvPicPr>
        <p:blipFill>
          <a:blip r:embed="rId1"/>
          <a:stretch/>
        </p:blipFill>
        <p:spPr>
          <a:xfrm>
            <a:off x="3214800" y="2286000"/>
            <a:ext cx="264312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6:10:19Z</dcterms:created>
  <dc:creator>openrtm</dc:creator>
  <dc:description/>
  <dc:language>en-US</dc:language>
  <cp:lastModifiedBy>openrtm</cp:lastModifiedBy>
  <dcterms:modified xsi:type="dcterms:W3CDTF">2010-05-27T06:51:22Z</dcterms:modified>
  <cp:revision>5</cp:revision>
  <dc:subject/>
  <dc:title>スライド 1</dc:title>
</cp:coreProperties>
</file>