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AAB-DB04-4C69-8384-D40DCA71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E67-A500-456E-B1AA-5BA9BF8C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6587-AB2C-4753-AD80-D5452388D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8CB4-234B-48FE-84F8-F8138AF9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1BDD-7554-431C-AAF7-B69E97CF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1F2-B1E3-4EF9-A9B3-56C3A47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87C-2A1A-44E6-B458-29438470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A19-6945-4BF9-9553-48FE3FBA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2BA-29AE-41B9-8F41-08250BB9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599-F410-4A6A-A0D7-2BF5560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02AA-36C6-40E5-AF4B-9E0B23FA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063E-3BD9-4B0F-A5ED-C5A2563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A0F4-205A-4050-9CE7-6E12A73AF6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C:\minho\MARKER\blankPatt_rtmiddleware.gif"/>
          <p:cNvPicPr/>
          <p:nvPr/>
        </p:nvPicPr>
        <p:blipFill>
          <a:blip r:embed="rId1"/>
          <a:stretch/>
        </p:blipFill>
        <p:spPr>
          <a:xfrm>
            <a:off x="3000240" y="1857240"/>
            <a:ext cx="2641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7T07:38:45Z</dcterms:modified>
  <cp:revision>9</cp:revision>
  <dc:subject/>
  <dc:title>スライド 1</dc:title>
</cp:coreProperties>
</file>