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2B6-014D-410C-B11E-00961637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9E5F-7FB7-4D65-B840-9EE03153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2A66-B004-4CA9-A9C4-EB0EB173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9DB-59BB-4C1E-B8F8-A3BCE907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3A5-190E-4C15-8D31-7D0DAB01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FC52-2934-4BA8-8F0C-54A322CE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14F0-84DA-4930-82B0-8F4B6CB8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57B-AA67-4C4B-ACBB-3F00A0D8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614-D360-4534-8EFE-D7C3B4A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1FE-1E68-4FAC-8AFF-A1B4ECB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F71-DF53-4B38-9710-41E2D4B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EE3-BE86-4BBC-95CE-AD9B3AC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10E13-36C4-486F-AE45-4C45F3AB11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minho\MARKER\blankPatt_openrtmaist.gif"/>
          <p:cNvPicPr/>
          <p:nvPr/>
        </p:nvPicPr>
        <p:blipFill>
          <a:blip r:embed="rId1"/>
          <a:stretch/>
        </p:blipFill>
        <p:spPr>
          <a:xfrm>
            <a:off x="3143160" y="185724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8T08:38:11Z</dcterms:modified>
  <cp:revision>14</cp:revision>
  <dc:subject/>
  <dc:title>スライド 1</dc:title>
</cp:coreProperties>
</file>