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E34F-3D81-42C1-8243-10D5A9789FA5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731F-6858-4EC5-A3C2-D99CE32C1896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2E61-1E92-4A9B-995F-0EBE0A92CB17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RTM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正方形/長方形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3"/>
          <p:cNvSpPr/>
          <p:nvPr/>
        </p:nvSpPr>
        <p:spPr>
          <a:xfrm>
            <a:off x="4643280" y="1214280"/>
            <a:ext cx="4214880" cy="400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4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移動ロボット「ビーゴ」用モジュール群</a:t>
            </a:r>
            <a:br>
              <a:rPr sz="36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村 聡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6"/>
          <p:cNvSpPr/>
          <p:nvPr/>
        </p:nvSpPr>
        <p:spPr>
          <a:xfrm>
            <a:off x="4572000" y="5413320"/>
            <a:ext cx="442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連絡先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上村 聡文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atofumi KAMIMUR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satofumi &lt;at&gt; sourceforge.jp</a:t>
            </a: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eego.sourceforge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7"/>
          <p:cNvSpPr/>
          <p:nvPr/>
        </p:nvSpPr>
        <p:spPr>
          <a:xfrm>
            <a:off x="0" y="1357200"/>
            <a:ext cx="4429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移動ロボット「ビーゴ」用の各種ライブラリを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ミドルウェア化したもの。（途中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ライブラリの制御対象としては、ビーゴの走行制御、測域センサ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,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ジャイ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秋月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DS01V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、ジョイスティッ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USB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ジョイスティック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i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ントロー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音楽、効果音、通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シリアル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CP/I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まわ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などがある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域センサ以外は、手つか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特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域セン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P2.0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準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動作確認セン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URG-04LX, Top-URG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な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作成途中、測域センサモジュールのみ公開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フェー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出力ポートから、測域センサからの測定データを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V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形式で取得可能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センス（公開条件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GPL(Lesser Gnu Public License)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と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8"/>
          <p:cNvSpPr/>
          <p:nvPr/>
        </p:nvSpPr>
        <p:spPr>
          <a:xfrm>
            <a:off x="6286680" y="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ＲＴミドルウエアコンテス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beego_body.jpg"/>
          <p:cNvPicPr/>
          <p:nvPr/>
        </p:nvPicPr>
        <p:blipFill>
          <a:blip r:embed="rId1"/>
          <a:stretch/>
        </p:blipFill>
        <p:spPr>
          <a:xfrm>
            <a:off x="6143760" y="1714680"/>
            <a:ext cx="118908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7"/>
          <p:cNvSpPr/>
          <p:nvPr/>
        </p:nvSpPr>
        <p:spPr>
          <a:xfrm>
            <a:off x="6577200" y="12859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移動ロボット「ビーゴ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8"/>
          <p:cNvSpPr/>
          <p:nvPr/>
        </p:nvSpPr>
        <p:spPr>
          <a:xfrm>
            <a:off x="5000760" y="4000680"/>
            <a:ext cx="914400" cy="914400"/>
          </a:xfrm>
          <a:prstGeom prst="rect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9"/>
          <p:cNvSpPr/>
          <p:nvPr/>
        </p:nvSpPr>
        <p:spPr>
          <a:xfrm>
            <a:off x="6357960" y="4214880"/>
            <a:ext cx="914400" cy="914400"/>
          </a:xfrm>
          <a:prstGeom prst="rect">
            <a:avLst/>
          </a:prstGeom>
          <a:solidFill>
            <a:srgbClr val="f7882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測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0"/>
          <p:cNvSpPr/>
          <p:nvPr/>
        </p:nvSpPr>
        <p:spPr>
          <a:xfrm>
            <a:off x="7786800" y="2571840"/>
            <a:ext cx="914400" cy="914400"/>
          </a:xfrm>
          <a:prstGeom prst="rect">
            <a:avLst/>
          </a:prstGeom>
          <a:solidFill>
            <a:srgbClr val="f2769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音楽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効果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1"/>
          <p:cNvSpPr/>
          <p:nvPr/>
        </p:nvSpPr>
        <p:spPr>
          <a:xfrm>
            <a:off x="7643880" y="3857760"/>
            <a:ext cx="1000080" cy="914400"/>
          </a:xfrm>
          <a:prstGeom prst="rect">
            <a:avLst/>
          </a:prstGeom>
          <a:solidFill>
            <a:srgbClr val="b4f2a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ジャイ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13"/>
          <p:cNvSpPr/>
          <p:nvPr/>
        </p:nvSpPr>
        <p:spPr>
          <a:xfrm>
            <a:off x="4857840" y="2714760"/>
            <a:ext cx="914400" cy="914400"/>
          </a:xfrm>
          <a:prstGeom prst="rect">
            <a:avLst/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走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線コネクタ 15"/>
          <p:cNvSpPr/>
          <p:nvPr/>
        </p:nvSpPr>
        <p:spPr>
          <a:xfrm flipH="1">
            <a:off x="5771880" y="2856960"/>
            <a:ext cx="51444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線コネクタ 17"/>
          <p:cNvSpPr/>
          <p:nvPr/>
        </p:nvSpPr>
        <p:spPr>
          <a:xfrm flipH="1">
            <a:off x="5857560" y="2857680"/>
            <a:ext cx="6476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線コネクタ 21"/>
          <p:cNvSpPr/>
          <p:nvPr/>
        </p:nvSpPr>
        <p:spPr>
          <a:xfrm>
            <a:off x="6791400" y="2857680"/>
            <a:ext cx="23760" cy="13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線コネクタ 22"/>
          <p:cNvSpPr/>
          <p:nvPr/>
        </p:nvSpPr>
        <p:spPr>
          <a:xfrm>
            <a:off x="7000920" y="2857680"/>
            <a:ext cx="642960" cy="10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線コネクタ 23"/>
          <p:cNvSpPr/>
          <p:nvPr/>
        </p:nvSpPr>
        <p:spPr>
          <a:xfrm>
            <a:off x="7219800" y="2857680"/>
            <a:ext cx="567000" cy="17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測域センサ、の機能と他モジュールの開発予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14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測域センサ、の今後の開発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測域センサへの問い合わせは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P 2.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規格に準拠したプログラムで行っており、北陽電機製の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-URG, High-URG, Rapid-URG, URG-04LX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対して、パラメータ変更なしでのデータ問い合わせが可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現在は、測域センサの測定距離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V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形式で出力ポートに定期送信するの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は、測定範囲などのセンサ情報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V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形式の出力に含めるほか、取得範囲や取得周期の設定が可能になるよう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他モジュールの今後の開発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ビーゴの走行制御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S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ジャイロ、ジョイスティック、音楽、効果音、のモジュール開発を予定している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++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の実装は、ほぼ完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現在は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BA,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およ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++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の見直し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、制御モジュールを随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化する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環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mo Linux 4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図 3" descr="beego_body.jpg"/>
          <p:cNvPicPr/>
          <p:nvPr/>
        </p:nvPicPr>
        <p:blipFill>
          <a:blip r:embed="rId1"/>
          <a:stretch/>
        </p:blipFill>
        <p:spPr>
          <a:xfrm>
            <a:off x="6286680" y="4214880"/>
            <a:ext cx="2286000" cy="2197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project</cp:lastModifiedBy>
  <dcterms:modified xsi:type="dcterms:W3CDTF">2007-12-17T20:59:05Z</dcterms:modified>
  <cp:revision>52</cp:revision>
  <dc:subject/>
  <dc:title>スライド 1</dc:title>
</cp:coreProperties>
</file>