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E92A-75D4-450C-AB99-F9ADF06DA8EB}" type="slidenum">
              <a:rPr b="0" lang="ja-JP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スライド番号プレースホル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BD76-9C43-423A-9B8C-A7FA0B2585AD}" type="slidenum">
              <a:rPr b="0" lang="ja-JP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スライド番号プレースホル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E701-76A8-41A3-BEDD-DBA3B14B901B}" type="slidenum">
              <a:rPr b="0" lang="ja-JP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0" y="659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RTM"/>
          <p:cNvPicPr/>
          <p:nvPr/>
        </p:nvPicPr>
        <p:blipFill>
          <a:blip r:embed="rId2"/>
          <a:stretch/>
        </p:blipFill>
        <p:spPr>
          <a:xfrm>
            <a:off x="108000" y="6381720"/>
            <a:ext cx="646200" cy="452520"/>
          </a:xfrm>
          <a:prstGeom prst="rect">
            <a:avLst/>
          </a:prstGeom>
          <a:ln w="0">
            <a:noFill/>
          </a:ln>
        </p:spPr>
      </p:pic>
      <p:sp>
        <p:nvSpPr>
          <p:cNvPr id="4" name="正方形/長方形 7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280ee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62150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ueReader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コンポーネント群</a:t>
            </a:r>
            <a:br>
              <a:rPr sz="36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大原　賢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産業技術総合研究所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6"/>
          <p:cNvSpPr/>
          <p:nvPr/>
        </p:nvSpPr>
        <p:spPr>
          <a:xfrm>
            <a:off x="4572000" y="4653000"/>
            <a:ext cx="442908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連絡先：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大原　賢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〒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5-85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茨城県つくば市梅園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1-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産業技術総合研究所つくばセンター中央第二知能システム研究部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: k-oohara(at)aist.go.j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7"/>
          <p:cNvSpPr/>
          <p:nvPr/>
        </p:nvSpPr>
        <p:spPr>
          <a:xfrm>
            <a:off x="0" y="1357200"/>
            <a:ext cx="4429080" cy="40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概要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デンソーウェーブ社製に次元バーコードリー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D2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に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コードの座標出力機能を装備したものを用いて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コードに保存された情報と，マークの位置情報の双方の情報を獲得することを可能にするコンポーネント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特徴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コードリーダコンポーネントとしても利用できる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コード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角の情報を用いることで，ビジュアルサーボなどの用途に利用可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上述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コードの座標出力機能を装備した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D2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はデンソーウェーブ様より標準実装された状態で購入可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インタフェー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ueReade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コンポーネントを中心として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コードの中身の情報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コードの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角の情報を入出力するインタフェースを装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ライセンス（公開条件）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ソフトウェアライセンスは産総研にありますが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　本コンポーネントの研究用途での使用は自由です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　商用用途の場合，別途相談ください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8"/>
          <p:cNvSpPr/>
          <p:nvPr/>
        </p:nvSpPr>
        <p:spPr>
          <a:xfrm>
            <a:off x="6286680" y="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ＲＴミドルウエアコンテスト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508720" y="1557360"/>
            <a:ext cx="2950920" cy="1166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076720" y="2781360"/>
            <a:ext cx="3514680" cy="1982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300720" y="770040"/>
            <a:ext cx="576360" cy="571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236000" y="760320"/>
            <a:ext cx="1152360" cy="557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5"/>
          <a:stretch/>
        </p:blipFill>
        <p:spPr>
          <a:xfrm>
            <a:off x="6516720" y="404640"/>
            <a:ext cx="163188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環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28760" y="114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Vine Linux 4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2.6.16-0vl76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gcc-3.3.6-0vl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言語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C+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シリアルコンバータ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232R-10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を利用すると，ソースの変更無しで利用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デンソーウェーブ社製二次元バーコードリー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D25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が必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19:22:47Z</dcterms:created>
  <dc:creator>Tetsuo KOTOKU</dc:creator>
  <dc:description/>
  <dc:language>en-US</dc:language>
  <cp:lastModifiedBy>大原賢一</cp:lastModifiedBy>
  <dcterms:modified xsi:type="dcterms:W3CDTF">2007-12-18T17:54:16Z</dcterms:modified>
  <cp:revision>28</cp:revision>
  <dc:subject/>
  <dc:title>スライド 1</dc:title>
</cp:coreProperties>
</file>