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RTM"/>
          <p:cNvPicPr/>
          <p:nvPr/>
        </p:nvPicPr>
        <p:blipFill>
          <a:blip r:embed="rId2"/>
          <a:stretch/>
        </p:blipFill>
        <p:spPr>
          <a:xfrm>
            <a:off x="108000" y="6381720"/>
            <a:ext cx="6462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正方形/長方形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280e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3"/>
          <p:cNvSpPr/>
          <p:nvPr/>
        </p:nvSpPr>
        <p:spPr>
          <a:xfrm>
            <a:off x="5076720" y="1285920"/>
            <a:ext cx="3888000" cy="40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写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説明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タイトル 4"/>
          <p:cNvSpPr/>
          <p:nvPr/>
        </p:nvSpPr>
        <p:spPr>
          <a:xfrm>
            <a:off x="0" y="357120"/>
            <a:ext cx="6732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複数</a:t>
            </a:r>
            <a:r>
              <a:rPr b="0" lang="en-US" sz="2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PU</a:t>
            </a:r>
            <a:r>
              <a:rPr b="0" lang="ja-JP" sz="2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間のための共有メモリ</a:t>
            </a:r>
            <a:br>
              <a:rPr sz="2800"/>
            </a:br>
            <a:r>
              <a:rPr b="0" lang="ja-JP" sz="20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小島 隆史（中央大学大学院理工学研究科　國井研究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6"/>
          <p:cNvSpPr/>
          <p:nvPr/>
        </p:nvSpPr>
        <p:spPr>
          <a:xfrm>
            <a:off x="5041800" y="5316480"/>
            <a:ext cx="4067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連絡先：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　中央大学　國井研究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URL</a:t>
            </a:r>
            <a:r>
              <a:rPr b="0" lang="ja-JP" sz="16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http://www.elect.chuo-u.ac.jp/kunii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7"/>
          <p:cNvSpPr/>
          <p:nvPr/>
        </p:nvSpPr>
        <p:spPr>
          <a:xfrm>
            <a:off x="34920" y="1197000"/>
            <a:ext cx="507672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概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　複数</a:t>
            </a:r>
            <a:r>
              <a:rPr b="0" lang="en-US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PU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間の共有メモリを同期し、さらに、要求があったクライアントコンポーネントに対しては、共有メモリを簡単に利用できるような枠組みを実現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　このコンポーネントを介することによって、単一</a:t>
            </a:r>
            <a:r>
              <a:rPr b="0" lang="en-US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PU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、複数</a:t>
            </a:r>
            <a:r>
              <a:rPr b="0" lang="en-US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PU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間を意識することなく、共有メモリが利用が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特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複数</a:t>
            </a:r>
            <a:r>
              <a:rPr b="0" lang="en-US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PU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間で共有メモリを仮想的に使うことができ、高速な通信が実現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同期機能は、データの送信と、受信を同時に行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クライアントは、サイズと、特定の文字列のみを送るため、負荷が少ない。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同期通信速度は</a:t>
            </a:r>
            <a:r>
              <a:rPr b="0" lang="en-US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RT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コンポーネントの通信速度に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インタフェー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HGSｺﾞｼｯｸE"/>
                <a:ea typeface="HGSｺﾞｼｯｸE"/>
              </a:rPr>
              <a:t>サービスポート：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　用途、大きさによる共有メモリ</a:t>
            </a:r>
            <a:r>
              <a:rPr b="0" lang="en-US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及び補助用セマフォを提供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HGSｺﾞｼｯｸE"/>
                <a:ea typeface="HGSｺﾞｼｯｸE"/>
              </a:rPr>
              <a:t>出力ポート：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　同期ポート（他同コンポーネント接続し、同期をおこな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HGSｺﾞｼｯｸE"/>
                <a:ea typeface="HGSｺﾞｼｯｸE"/>
              </a:rPr>
              <a:t>入力ポート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　①同期ポート（出力ポートに同じ）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　②更新通知ポート（クライアント側から更新通知を受け取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ライセンス（公開条件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RT</a:t>
            </a: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ミドルウェアの公開条件に準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8"/>
          <p:cNvSpPr/>
          <p:nvPr/>
        </p:nvSpPr>
        <p:spPr>
          <a:xfrm>
            <a:off x="6286680" y="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ＲＴミドルウエアコンテス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64000" y="1325520"/>
            <a:ext cx="3240360" cy="1754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77080" y="2997360"/>
            <a:ext cx="360360" cy="360360"/>
          </a:xfrm>
          <a:prstGeom prst="upDownArrow">
            <a:avLst>
              <a:gd name="adj1" fmla="val 46324"/>
              <a:gd name="adj2" fmla="val 3014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64000" y="3376440"/>
            <a:ext cx="3168720" cy="170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443640" y="333360"/>
            <a:ext cx="259092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947480" y="5013360"/>
            <a:ext cx="428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開発環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OS: Fedora core 6 (kernel:2.6.18-1.27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ompiler: gcc 4.1.1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ORBA: omniORB 4.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ACE: ace 5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OpenRTM-aist:OpenRTM-aist-0.4.1-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0" y="333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　複数</a:t>
            </a: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PU</a:t>
            </a: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のための共有メモリコンポーネントは、通常、１つの</a:t>
            </a: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PU</a:t>
            </a: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内でしか解決できない共有メモリを</a:t>
            </a: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RT</a:t>
            </a: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ミドルウェアの通信機能を使って同期機能を提供しています。これにより、</a:t>
            </a: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PU</a:t>
            </a: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間のデータ共有や、接続を</a:t>
            </a:r>
            <a:r>
              <a:rPr b="0" lang="en-US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RTC-Link</a:t>
            </a: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などを使うことで、簡単に変更することができ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　独自のデータ形式による受け渡しを行うコンポーネントが多い場合、独自のデータ形式は、共有メモリを介して行うことができるため、コンポーネントの追加・削除のための依存解決コストを抑え、開発速度を高めます。また、データの管理を一元化することで、構成を単純化し運用がおこなえるようにな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62520" y="1987200"/>
            <a:ext cx="3774600" cy="2344680"/>
            <a:chOff x="362520" y="1987200"/>
            <a:chExt cx="3774600" cy="2344680"/>
          </a:xfrm>
        </p:grpSpPr>
        <p:sp>
          <p:nvSpPr>
            <p:cNvPr id="53" name=""/>
            <p:cNvSpPr/>
            <p:nvPr/>
          </p:nvSpPr>
          <p:spPr>
            <a:xfrm>
              <a:off x="2001960" y="2899080"/>
              <a:ext cx="1097280" cy="37260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cafeb9"/>
                </a:gs>
                <a:gs pos="100000">
                  <a:srgbClr val="66ff3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1280" y="3272040"/>
              <a:ext cx="1097280" cy="37224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cafeb9"/>
                </a:gs>
                <a:gs pos="100000">
                  <a:srgbClr val="66ff3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7800" y="2224800"/>
              <a:ext cx="1097280" cy="37224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cafeb9"/>
                </a:gs>
                <a:gs pos="100000">
                  <a:srgbClr val="66ff3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07640" y="2224800"/>
              <a:ext cx="1096920" cy="37224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cafeb9"/>
                </a:gs>
                <a:gs pos="100000">
                  <a:srgbClr val="66ff3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01960" y="3722400"/>
              <a:ext cx="1097280" cy="37224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cafeb9"/>
                </a:gs>
                <a:gs pos="100000">
                  <a:srgbClr val="66ff3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"/>
            <p:cNvCxnSpPr>
              <a:stCxn id="55" idx="2"/>
              <a:endCxn id="53" idx="0"/>
            </p:cNvCxnSpPr>
            <p:nvPr/>
          </p:nvCxnSpPr>
          <p:spPr>
            <a:xfrm flipH="1" rot="16200000">
              <a:off x="1797840" y="2125440"/>
              <a:ext cx="262800" cy="1244880"/>
            </a:xfrm>
            <a:prstGeom prst="bentConnector3">
              <a:avLst>
                <a:gd name="adj1" fmla="val 4965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" name=""/>
            <p:cNvCxnSpPr>
              <a:stCxn id="55" idx="3"/>
              <a:endCxn id="56" idx="1"/>
            </p:cNvCxnSpPr>
            <p:nvPr/>
          </p:nvCxnSpPr>
          <p:spPr>
            <a:xfrm>
              <a:off x="1874520" y="2410560"/>
              <a:ext cx="914040" cy="108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stealth" w="med"/>
            </a:ln>
          </p:spPr>
        </p:cxnSp>
        <p:cxnSp>
          <p:nvCxnSpPr>
            <p:cNvPr id="60" name=""/>
            <p:cNvCxnSpPr>
              <a:stCxn id="53" idx="1"/>
              <a:endCxn id="54" idx="0"/>
            </p:cNvCxnSpPr>
            <p:nvPr/>
          </p:nvCxnSpPr>
          <p:spPr>
            <a:xfrm flipV="1" rot="10800000">
              <a:off x="1158840" y="3085200"/>
              <a:ext cx="823680" cy="16704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stealth" w="med"/>
            </a:ln>
          </p:spPr>
        </p:cxnSp>
        <p:cxnSp>
          <p:nvCxnSpPr>
            <p:cNvPr id="61" name=""/>
            <p:cNvCxnSpPr>
              <a:stCxn id="56" idx="2"/>
              <a:endCxn id="53" idx="3"/>
            </p:cNvCxnSpPr>
            <p:nvPr/>
          </p:nvCxnSpPr>
          <p:spPr>
            <a:xfrm rot="5400000">
              <a:off x="3002760" y="2732400"/>
              <a:ext cx="469080" cy="23760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stealth" w="med"/>
            </a:ln>
          </p:spPr>
        </p:cxnSp>
        <p:cxnSp>
          <p:nvCxnSpPr>
            <p:cNvPr id="62" name=""/>
            <p:cNvCxnSpPr>
              <a:stCxn id="57" idx="0"/>
              <a:endCxn id="53" idx="2"/>
            </p:cNvCxnSpPr>
            <p:nvPr/>
          </p:nvCxnSpPr>
          <p:spPr>
            <a:xfrm flipV="1">
              <a:off x="2550600" y="3291480"/>
              <a:ext cx="1080" cy="4111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3" name=""/>
            <p:cNvCxnSpPr>
              <a:stCxn id="57" idx="3"/>
              <a:endCxn id="56" idx="3"/>
            </p:cNvCxnSpPr>
            <p:nvPr/>
          </p:nvCxnSpPr>
          <p:spPr>
            <a:xfrm flipV="1">
              <a:off x="3119040" y="2410560"/>
              <a:ext cx="805680" cy="1498320"/>
            </a:xfrm>
            <a:prstGeom prst="bentConnector3">
              <a:avLst>
                <a:gd name="adj1" fmla="val 12641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4" name=""/>
            <p:cNvCxnSpPr>
              <a:stCxn id="57" idx="2"/>
              <a:endCxn id="55" idx="0"/>
            </p:cNvCxnSpPr>
            <p:nvPr/>
          </p:nvCxnSpPr>
          <p:spPr>
            <a:xfrm flipV="1" rot="16200000">
              <a:off x="973800" y="2536920"/>
              <a:ext cx="1910160" cy="1244880"/>
            </a:xfrm>
            <a:prstGeom prst="bentConnector5">
              <a:avLst>
                <a:gd name="adj1" fmla="val -11385"/>
                <a:gd name="adj2" fmla="val 175846"/>
                <a:gd name="adj3" fmla="val 11138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5" name=""/>
            <p:cNvCxnSpPr>
              <a:stCxn id="54" idx="2"/>
              <a:endCxn id="57" idx="1"/>
            </p:cNvCxnSpPr>
            <p:nvPr/>
          </p:nvCxnSpPr>
          <p:spPr>
            <a:xfrm flipH="1" rot="16200000">
              <a:off x="1449000" y="3374640"/>
              <a:ext cx="244800" cy="82368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66" name=""/>
          <p:cNvGrpSpPr/>
          <p:nvPr/>
        </p:nvGrpSpPr>
        <p:grpSpPr>
          <a:xfrm>
            <a:off x="5508720" y="1844640"/>
            <a:ext cx="3240000" cy="2806200"/>
            <a:chOff x="5508720" y="1844640"/>
            <a:chExt cx="3240000" cy="2806200"/>
          </a:xfrm>
        </p:grpSpPr>
        <p:sp>
          <p:nvSpPr>
            <p:cNvPr id="67" name=""/>
            <p:cNvSpPr/>
            <p:nvPr/>
          </p:nvSpPr>
          <p:spPr>
            <a:xfrm>
              <a:off x="5508720" y="1910880"/>
              <a:ext cx="431640" cy="2673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cafeb9"/>
                </a:gs>
                <a:gs pos="100000">
                  <a:srgbClr val="66ff3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|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91400" y="3046680"/>
              <a:ext cx="1057320" cy="3679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cafeb9"/>
                </a:gs>
                <a:gs pos="100000">
                  <a:srgbClr val="66ff3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91400" y="4282560"/>
              <a:ext cx="1057320" cy="3682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cafeb9"/>
                </a:gs>
                <a:gs pos="100000">
                  <a:srgbClr val="66ff3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91400" y="2444040"/>
              <a:ext cx="1057320" cy="3679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cafeb9"/>
                </a:gs>
                <a:gs pos="100000">
                  <a:srgbClr val="66ff3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1400" y="1844640"/>
              <a:ext cx="1057320" cy="3682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cafeb9"/>
                </a:gs>
                <a:gs pos="100000">
                  <a:srgbClr val="66ff3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91400" y="3647880"/>
              <a:ext cx="1057320" cy="3679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cafeb9"/>
                </a:gs>
                <a:gs pos="100000">
                  <a:srgbClr val="66ff3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GSｺﾞｼｯｸE"/>
                  <a:ea typeface="HGSｺﾞｼｯｸE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67" idx="3"/>
              <a:endCxn id="71" idx="1"/>
            </p:cNvCxnSpPr>
            <p:nvPr/>
          </p:nvCxnSpPr>
          <p:spPr>
            <a:xfrm flipV="1">
              <a:off x="5959440" y="2028600"/>
              <a:ext cx="1713600" cy="1220400"/>
            </a:xfrm>
            <a:prstGeom prst="bentConnector3">
              <a:avLst>
                <a:gd name="adj1" fmla="val 4994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4" name=""/>
            <p:cNvCxnSpPr>
              <a:stCxn id="67" idx="3"/>
              <a:endCxn id="70" idx="1"/>
            </p:cNvCxnSpPr>
            <p:nvPr/>
          </p:nvCxnSpPr>
          <p:spPr>
            <a:xfrm flipV="1">
              <a:off x="5959440" y="2627640"/>
              <a:ext cx="1713600" cy="621000"/>
            </a:xfrm>
            <a:prstGeom prst="bentConnector3">
              <a:avLst>
                <a:gd name="adj1" fmla="val 4994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5" name=""/>
            <p:cNvCxnSpPr>
              <a:stCxn id="69" idx="1"/>
              <a:endCxn id="67" idx="3"/>
            </p:cNvCxnSpPr>
            <p:nvPr/>
          </p:nvCxnSpPr>
          <p:spPr>
            <a:xfrm rot="10800000">
              <a:off x="5958720" y="3247920"/>
              <a:ext cx="1713600" cy="1218960"/>
            </a:xfrm>
            <a:prstGeom prst="bentConnector3">
              <a:avLst>
                <a:gd name="adj1" fmla="val 4994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6" name=""/>
            <p:cNvCxnSpPr>
              <a:stCxn id="72" idx="1"/>
              <a:endCxn id="67" idx="3"/>
            </p:cNvCxnSpPr>
            <p:nvPr/>
          </p:nvCxnSpPr>
          <p:spPr>
            <a:xfrm rot="10800000">
              <a:off x="5958720" y="3247920"/>
              <a:ext cx="1713600" cy="583920"/>
            </a:xfrm>
            <a:prstGeom prst="bentConnector3">
              <a:avLst>
                <a:gd name="adj1" fmla="val 4994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7" name=""/>
            <p:cNvCxnSpPr>
              <a:stCxn id="67" idx="3"/>
              <a:endCxn id="68" idx="1"/>
            </p:cNvCxnSpPr>
            <p:nvPr/>
          </p:nvCxnSpPr>
          <p:spPr>
            <a:xfrm flipV="1">
              <a:off x="5959440" y="3230280"/>
              <a:ext cx="1713600" cy="18360"/>
            </a:xfrm>
            <a:prstGeom prst="bentConnector3">
              <a:avLst>
                <a:gd name="adj1" fmla="val 4994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8" name=""/>
            <p:cNvCxnSpPr>
              <a:stCxn id="69" idx="0"/>
              <a:endCxn id="72" idx="2"/>
            </p:cNvCxnSpPr>
            <p:nvPr/>
          </p:nvCxnSpPr>
          <p:spPr>
            <a:xfrm flipV="1">
              <a:off x="8219880" y="4033440"/>
              <a:ext cx="1080" cy="23184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79" name=""/>
            <p:cNvCxnSpPr>
              <a:stCxn id="72" idx="0"/>
              <a:endCxn id="68" idx="2"/>
            </p:cNvCxnSpPr>
            <p:nvPr/>
          </p:nvCxnSpPr>
          <p:spPr>
            <a:xfrm flipV="1">
              <a:off x="8219880" y="3432240"/>
              <a:ext cx="1080" cy="19800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80" name=""/>
            <p:cNvCxnSpPr>
              <a:stCxn id="68" idx="0"/>
              <a:endCxn id="70" idx="2"/>
            </p:cNvCxnSpPr>
            <p:nvPr/>
          </p:nvCxnSpPr>
          <p:spPr>
            <a:xfrm flipV="1">
              <a:off x="8219880" y="2829240"/>
              <a:ext cx="1080" cy="19980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81" name=""/>
            <p:cNvCxnSpPr>
              <a:stCxn id="70" idx="0"/>
              <a:endCxn id="71" idx="2"/>
            </p:cNvCxnSpPr>
            <p:nvPr/>
          </p:nvCxnSpPr>
          <p:spPr>
            <a:xfrm flipV="1">
              <a:off x="8219880" y="2229840"/>
              <a:ext cx="1080" cy="19620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</p:cxnSp>
      </p:grpSp>
      <p:sp>
        <p:nvSpPr>
          <p:cNvPr id="82" name=""/>
          <p:cNvSpPr/>
          <p:nvPr/>
        </p:nvSpPr>
        <p:spPr>
          <a:xfrm rot="16200000">
            <a:off x="4465080" y="2747160"/>
            <a:ext cx="576000" cy="790560"/>
          </a:xfrm>
          <a:prstGeom prst="downArrow">
            <a:avLst>
              <a:gd name="adj1" fmla="val 46565"/>
              <a:gd name="adj2" fmla="val 6526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71785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252360" y="4508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構成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26680" y="4738680"/>
            <a:ext cx="3009600" cy="1716480"/>
            <a:chOff x="526680" y="4738680"/>
            <a:chExt cx="3009600" cy="1716480"/>
          </a:xfrm>
        </p:grpSpPr>
        <p:grpSp>
          <p:nvGrpSpPr>
            <p:cNvPr id="85" name=""/>
            <p:cNvGrpSpPr/>
            <p:nvPr/>
          </p:nvGrpSpPr>
          <p:grpSpPr>
            <a:xfrm>
              <a:off x="2276640" y="5531040"/>
              <a:ext cx="647640" cy="288720"/>
              <a:chOff x="2276640" y="5531040"/>
              <a:chExt cx="647640" cy="288720"/>
            </a:xfrm>
          </p:grpSpPr>
          <p:sp>
            <p:nvSpPr>
              <p:cNvPr id="86" name=""/>
              <p:cNvSpPr/>
              <p:nvPr/>
            </p:nvSpPr>
            <p:spPr>
              <a:xfrm rot="10800000">
                <a:off x="2276640" y="5531040"/>
                <a:ext cx="574560" cy="288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0800000">
                <a:off x="2779920" y="5604480"/>
                <a:ext cx="144360" cy="142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826920" y="5543640"/>
              <a:ext cx="671400" cy="504720"/>
              <a:chOff x="826920" y="5543640"/>
              <a:chExt cx="671400" cy="504720"/>
            </a:xfrm>
          </p:grpSpPr>
          <p:sp>
            <p:nvSpPr>
              <p:cNvPr id="89" name=""/>
              <p:cNvSpPr/>
              <p:nvPr/>
            </p:nvSpPr>
            <p:spPr>
              <a:xfrm>
                <a:off x="826920" y="5543640"/>
                <a:ext cx="57456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330200" y="5616720"/>
                <a:ext cx="144360" cy="14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30200" y="5832360"/>
                <a:ext cx="168120" cy="1429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2" name=""/>
            <p:cNvCxnSpPr>
              <a:stCxn id="93" idx="0"/>
              <a:endCxn id="94" idx="0"/>
            </p:cNvCxnSpPr>
            <p:nvPr/>
          </p:nvCxnSpPr>
          <p:spPr>
            <a:xfrm>
              <a:off x="1499760" y="5025600"/>
              <a:ext cx="734040" cy="108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>
              <a:off x="1589040" y="473868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同期ポー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97" idx="3"/>
              <a:endCxn id="90" idx="3"/>
            </p:cNvCxnSpPr>
            <p:nvPr/>
          </p:nvCxnSpPr>
          <p:spPr>
            <a:xfrm flipH="1">
              <a:off x="1474560" y="5241600"/>
              <a:ext cx="2160" cy="446760"/>
            </a:xfrm>
            <a:prstGeom prst="bentConnector3">
              <a:avLst>
                <a:gd name="adj1" fmla="val -1430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99" idx="3"/>
              <a:endCxn id="87" idx="1"/>
            </p:cNvCxnSpPr>
            <p:nvPr/>
          </p:nvCxnSpPr>
          <p:spPr>
            <a:xfrm>
              <a:off x="2924280" y="5240520"/>
              <a:ext cx="2160" cy="435600"/>
            </a:xfrm>
            <a:prstGeom prst="bentConnector3">
              <a:avLst>
                <a:gd name="adj1" fmla="val 1430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100" name=""/>
            <p:cNvGrpSpPr/>
            <p:nvPr/>
          </p:nvGrpSpPr>
          <p:grpSpPr>
            <a:xfrm>
              <a:off x="755640" y="4883040"/>
              <a:ext cx="744480" cy="505080"/>
              <a:chOff x="755640" y="4883040"/>
              <a:chExt cx="744480" cy="505080"/>
            </a:xfrm>
          </p:grpSpPr>
          <p:sp>
            <p:nvSpPr>
              <p:cNvPr id="101" name=""/>
              <p:cNvSpPr/>
              <p:nvPr/>
            </p:nvSpPr>
            <p:spPr>
              <a:xfrm>
                <a:off x="828720" y="4883040"/>
                <a:ext cx="574560" cy="505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32000" y="5170680"/>
                <a:ext cx="144360" cy="14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32000" y="4954680"/>
                <a:ext cx="168120" cy="1429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1004" y="0"/>
                    </a:lnTo>
                    <a:lnTo>
                      <a:pt x="21600" y="10800"/>
                    </a:lnTo>
                    <a:lnTo>
                      <a:pt x="110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55640" y="4954680"/>
                <a:ext cx="142920" cy="1443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994" y="0"/>
                    </a:lnTo>
                    <a:lnTo>
                      <a:pt x="21600" y="10800"/>
                    </a:lnTo>
                    <a:lnTo>
                      <a:pt x="16994" y="21600"/>
                    </a:lnTo>
                    <a:lnTo>
                      <a:pt x="0" y="21600"/>
                    </a:lnTo>
                    <a:lnTo>
                      <a:pt x="4606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5640" y="5170680"/>
                <a:ext cx="142920" cy="1443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994" y="0"/>
                    </a:lnTo>
                    <a:lnTo>
                      <a:pt x="21600" y="10800"/>
                    </a:lnTo>
                    <a:lnTo>
                      <a:pt x="16994" y="21600"/>
                    </a:lnTo>
                    <a:lnTo>
                      <a:pt x="0" y="21600"/>
                    </a:lnTo>
                    <a:lnTo>
                      <a:pt x="4606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203560" y="4881600"/>
              <a:ext cx="744480" cy="504720"/>
              <a:chOff x="2203560" y="4881600"/>
              <a:chExt cx="744480" cy="504720"/>
            </a:xfrm>
          </p:grpSpPr>
          <p:sp>
            <p:nvSpPr>
              <p:cNvPr id="105" name=""/>
              <p:cNvSpPr/>
              <p:nvPr/>
            </p:nvSpPr>
            <p:spPr>
              <a:xfrm>
                <a:off x="2276640" y="4881600"/>
                <a:ext cx="57456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779920" y="5168880"/>
                <a:ext cx="144360" cy="142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779920" y="4952880"/>
                <a:ext cx="168120" cy="14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1004" y="0"/>
                    </a:lnTo>
                    <a:lnTo>
                      <a:pt x="21600" y="10800"/>
                    </a:lnTo>
                    <a:lnTo>
                      <a:pt x="110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03560" y="4952880"/>
                <a:ext cx="142920" cy="1440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994" y="0"/>
                    </a:lnTo>
                    <a:lnTo>
                      <a:pt x="21600" y="10800"/>
                    </a:lnTo>
                    <a:lnTo>
                      <a:pt x="16994" y="21600"/>
                    </a:lnTo>
                    <a:lnTo>
                      <a:pt x="0" y="21600"/>
                    </a:lnTo>
                    <a:lnTo>
                      <a:pt x="4606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03560" y="5168880"/>
                <a:ext cx="142920" cy="1440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994" y="0"/>
                    </a:lnTo>
                    <a:lnTo>
                      <a:pt x="21600" y="10800"/>
                    </a:lnTo>
                    <a:lnTo>
                      <a:pt x="16994" y="21600"/>
                    </a:lnTo>
                    <a:lnTo>
                      <a:pt x="0" y="21600"/>
                    </a:lnTo>
                    <a:lnTo>
                      <a:pt x="4606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8" name=""/>
            <p:cNvCxnSpPr>
              <a:stCxn id="91" idx="0"/>
              <a:endCxn id="103" idx="0"/>
            </p:cNvCxnSpPr>
            <p:nvPr/>
          </p:nvCxnSpPr>
          <p:spPr>
            <a:xfrm flipH="1" flipV="1">
              <a:off x="785520" y="5242680"/>
              <a:ext cx="713520" cy="661320"/>
            </a:xfrm>
            <a:prstGeom prst="bentConnector5">
              <a:avLst>
                <a:gd name="adj1" fmla="val -32054"/>
                <a:gd name="adj2" fmla="val -44444"/>
                <a:gd name="adj3" fmla="val 136294"/>
              </a:avLst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09" name=""/>
            <p:cNvSpPr/>
            <p:nvPr/>
          </p:nvSpPr>
          <p:spPr>
            <a:xfrm>
              <a:off x="1369080" y="617868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更新通知ポー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2600" y="5675400"/>
              <a:ext cx="64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ポー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68960" y="5315040"/>
              <a:ext cx="64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ポー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4160" y="567540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21280" y="553104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0160" y="502596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77720" y="502596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テキスト ボックス 11"/>
          <p:cNvSpPr/>
          <p:nvPr/>
        </p:nvSpPr>
        <p:spPr>
          <a:xfrm>
            <a:off x="3492360" y="537372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簡単な同期確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であれば例のように構成することで確認ができ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2:47Z</dcterms:created>
  <dc:creator>Tetsuo KOTOKU</dc:creator>
  <dc:description/>
  <dc:language>en-US</dc:language>
  <cp:lastModifiedBy>Takashi</cp:lastModifiedBy>
  <dcterms:modified xsi:type="dcterms:W3CDTF">2007-12-18T01:43:04Z</dcterms:modified>
  <cp:revision>42</cp:revision>
  <dc:subject/>
  <dc:title>スライド 1</dc:title>
</cp:coreProperties>
</file>