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6258-34CD-41B9-B860-8CDBE1D8E32B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ED4-4907-4ED1-863C-E2791B39B91C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218F-85B4-436D-8F7F-AC1F84441A8C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iro@elect.chuo-u.ac.jp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3"/>
          <p:cNvSpPr/>
          <p:nvPr/>
        </p:nvSpPr>
        <p:spPr>
          <a:xfrm>
            <a:off x="4716360" y="1557360"/>
            <a:ext cx="4214880" cy="371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写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説明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6215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を用い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カメラ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G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制御モジュール</a:t>
            </a:r>
            <a:br>
              <a:rPr sz="36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所属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賀田寛夫（中央大学國井研究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5"/>
          <p:cNvSpPr/>
          <p:nvPr/>
        </p:nvSpPr>
        <p:spPr>
          <a:xfrm>
            <a:off x="6500880" y="428760"/>
            <a:ext cx="235728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会社や製品のロゴ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このスペース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4714920" y="5445000"/>
            <a:ext cx="5186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絡先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ro@elect.chuo-u.ac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lect.chuo-u.ac.jp/kunii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7"/>
          <p:cNvSpPr/>
          <p:nvPr/>
        </p:nvSpPr>
        <p:spPr>
          <a:xfrm>
            <a:off x="0" y="1628640"/>
            <a:ext cx="4429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カメラ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UR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指示を送り、画像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スキャンデータを取得（ステレオ視）。さらにそれら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データを表示する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のコマンドを音声で読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上げ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C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使わ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カメラを制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UR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制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よるコマンドの音声通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マンド出力、コマンド入力、画像出力、画像入力レーザデータ入力、レーザデータ出力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特に無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716360" y="1557360"/>
          <a:ext cx="210996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1557360"/>
                    <a:ext cx="21099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804000" y="1557360"/>
          <a:ext cx="211284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1557360"/>
                    <a:ext cx="21128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867280" y="3645000"/>
          <a:ext cx="2016360" cy="16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3645000"/>
                    <a:ext cx="20163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101080" y="4076640"/>
            <a:ext cx="574560" cy="647640"/>
          </a:xfrm>
          <a:custGeom>
            <a:avLst/>
            <a:gdLst>
              <a:gd name="textAreaLeft" fmla="*/ 164880 w 574560"/>
              <a:gd name="textAreaRight" fmla="*/ 492120 w 57456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076360" y="4005000"/>
            <a:ext cx="574560" cy="647640"/>
          </a:xfrm>
          <a:custGeom>
            <a:avLst/>
            <a:gdLst>
              <a:gd name="textAreaLeft" fmla="*/ 164880 w 574560"/>
              <a:gd name="textAreaRight" fmla="*/ 492120 w 57456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72360" y="692280"/>
            <a:ext cx="2303280" cy="196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0920" y="549360"/>
            <a:ext cx="155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ロボットにおける環境計測用のセンサとして、画像センサ（カメラ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挙げられます。ロボットの内部で、これらのセンサ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得られたデータを他のモジュールで利用することを想定し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た、オペレータがセンサデータを把握できるよう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よる制御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らのデータの表示を行えるように作りました。その際にコマンド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音声読み上げ機能を付加し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5013360"/>
            <a:ext cx="56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発環境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: Linux (Fedora Core 6) kernel 2.6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t,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33040" y="33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接続関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349360"/>
            <a:ext cx="1009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B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カメ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3933720"/>
            <a:ext cx="1009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93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403280" y="2565000"/>
            <a:ext cx="100800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7400" y="2421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取得指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9280" y="2781360"/>
            <a:ext cx="7920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64240" y="2951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618920" y="3499920"/>
            <a:ext cx="6490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6160" y="3460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3645000"/>
            <a:ext cx="8650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34936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画像データは画像ファイルとして保存したものを配列に落して送受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4320" y="38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取得指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00400" y="50846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取得指示ボタ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2960" y="3860640"/>
            <a:ext cx="195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そのまま配列に入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送受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6680" y="50846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表示ボタ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544500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ボタンをクリックすると音声で通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28800" y="28526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状態の表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588000" y="3286080"/>
            <a:ext cx="1944720" cy="1800360"/>
            <a:chOff x="6588000" y="3286080"/>
            <a:chExt cx="1944720" cy="1800360"/>
          </a:xfrm>
        </p:grpSpPr>
        <p:graphicFrame>
          <p:nvGraphicFramePr>
            <p:cNvPr id="83" name=""/>
            <p:cNvGraphicFramePr/>
            <p:nvPr/>
          </p:nvGraphicFramePr>
          <p:xfrm>
            <a:off x="6588000" y="3286080"/>
            <a:ext cx="1944720" cy="16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88000" y="3286080"/>
                      <a:ext cx="194472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7451640" y="4078440"/>
              <a:ext cx="1079640" cy="576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005360"/>
              <a:ext cx="576000" cy="79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9640" y="3646440"/>
              <a:ext cx="1800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876720" y="4797360"/>
              <a:ext cx="142920" cy="28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28000" y="4653000"/>
              <a:ext cx="7308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 flipV="1">
            <a:off x="7596360" y="314172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hiro</cp:lastModifiedBy>
  <dcterms:modified xsi:type="dcterms:W3CDTF">2007-12-19T10:06:15Z</dcterms:modified>
  <cp:revision>29</cp:revision>
  <dc:subject/>
  <dc:title>スライド 1</dc:title>
</cp:coreProperties>
</file>