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C178A-BE22-4219-B322-CCD2797618D6}" type="slidenum">
              <a:rPr b="0" lang="ja-JP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スライド番号プレースホル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B7C0F-78E2-494F-84DA-AB88F3D65DF6}" type="slidenum">
              <a:rPr b="0" lang="ja-JP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スライド番号プレースホル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0C8B4-7FC0-489E-A485-E1B9FD4EC297}" type="slidenum">
              <a:rPr b="0" lang="ja-JP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5"/>
          <p:cNvSpPr/>
          <p:nvPr/>
        </p:nvSpPr>
        <p:spPr>
          <a:xfrm>
            <a:off x="0" y="6597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7" descr="RTM"/>
          <p:cNvPicPr/>
          <p:nvPr/>
        </p:nvPicPr>
        <p:blipFill>
          <a:blip r:embed="rId2"/>
          <a:stretch/>
        </p:blipFill>
        <p:spPr>
          <a:xfrm>
            <a:off x="108000" y="6381720"/>
            <a:ext cx="646200" cy="452520"/>
          </a:xfrm>
          <a:prstGeom prst="rect">
            <a:avLst/>
          </a:prstGeom>
          <a:ln w="0">
            <a:noFill/>
          </a:ln>
        </p:spPr>
      </p:pic>
      <p:sp>
        <p:nvSpPr>
          <p:cNvPr id="4" name="正方形/長方形 7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280ee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3840" y="357120"/>
            <a:ext cx="70218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分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RF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キャリブレーション支援（群）</a:t>
            </a:r>
            <a:br>
              <a:rPr sz="36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佐々木毅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（東京大学生産技術研究所橋本研究室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6"/>
          <p:cNvSpPr/>
          <p:nvPr/>
        </p:nvSpPr>
        <p:spPr>
          <a:xfrm>
            <a:off x="4606920" y="5000760"/>
            <a:ext cx="442908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連絡先：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〒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3-8505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東京都目黒区駒場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6-1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東京大学生産技術研究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w201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橋本研究室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佐々木毅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ail: sasaki &lt;at&gt; hlab. iis. u-tokyo. ac. jp </a:t>
            </a:r>
            <a:br>
              <a:rPr sz="12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dfs.iis.u-tokyo.ac.j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テキスト ボックス 7"/>
          <p:cNvSpPr/>
          <p:nvPr/>
        </p:nvSpPr>
        <p:spPr>
          <a:xfrm>
            <a:off x="108000" y="1285920"/>
            <a:ext cx="431964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概要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空間に分散配置されたレーザレンジファインダ</a:t>
            </a:r>
            <a:br>
              <a:rPr sz="1400"/>
            </a:b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F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）の位置・姿勢のキャリブレーションを支援</a:t>
            </a:r>
            <a:br>
              <a:rPr sz="1400"/>
            </a:b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するコンポーネント群。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F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から得られる物体の</a:t>
            </a:r>
            <a:br>
              <a:rPr sz="1400"/>
            </a:b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センサ座標系での位置とその物体の基準座標系</a:t>
            </a:r>
            <a:br>
              <a:rPr sz="1400"/>
            </a:b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での位置の対応からキャリブレーションを行う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特徴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キャリブレーション処理だけでなく、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F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、移動</a:t>
            </a:r>
            <a:br>
              <a:rPr sz="1400"/>
            </a:b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物体トラッキングといった各機能要素に関しても</a:t>
            </a:r>
            <a:br>
              <a:rPr sz="1400"/>
            </a:b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コンポーネント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様々なキャリブレーション手法への適用例を</a:t>
            </a:r>
            <a:br>
              <a:rPr sz="1400"/>
            </a:b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提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各要素機能のコンポーネントに関しても知能化</a:t>
            </a:r>
            <a:br>
              <a:rPr sz="1400"/>
            </a:b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空間の基本要素として利用可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インタフェー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キャリブレーションを行う際のシステム全体として</a:t>
            </a:r>
            <a:br>
              <a:rPr sz="1400"/>
            </a:b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の入出力情報は下記の通り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入力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RF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から得られる物体位置及びその物体の基準座標系での位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出力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RF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の基準座標系に対する位置・姿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ライセンス（公開条件）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非商用利用であれば自由に利用化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テキスト ボックス 8"/>
          <p:cNvSpPr/>
          <p:nvPr/>
        </p:nvSpPr>
        <p:spPr>
          <a:xfrm>
            <a:off x="6286680" y="0"/>
            <a:ext cx="28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</a:rPr>
              <a:t>ＲＴミドルウエアコンテスト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068880" y="836640"/>
            <a:ext cx="2824200" cy="711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162840" y="129384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459640" y="333360"/>
            <a:ext cx="433440" cy="4334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533840" y="1844640"/>
            <a:ext cx="42861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テキスト ボックス 10"/>
          <p:cNvSpPr/>
          <p:nvPr/>
        </p:nvSpPr>
        <p:spPr>
          <a:xfrm>
            <a:off x="5029200" y="404640"/>
            <a:ext cx="4032360" cy="18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開発環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OS: Ubuntu Linux 7.0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RT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ミドルウェア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: OpenRTM-aist-0.4.1-REL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コンパイラ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: gcc 4.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ORBA : omniORB 4.0.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CE : ACE 5.4.7-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Eclipse : Eclipse 3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実行環境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: Sun Java 1.5.0-11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テキスト ボックス 11"/>
          <p:cNvSpPr/>
          <p:nvPr/>
        </p:nvSpPr>
        <p:spPr>
          <a:xfrm>
            <a:off x="179280" y="404640"/>
            <a:ext cx="4824360" cy="29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開発したコンポーネント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RF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コンポーネント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LRFCompon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－北陽電機（株）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RF (URG-04LX)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T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コンポーネント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移動体トラッキングコンポーネント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impleTrack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RF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スキャンデータから移動物体の位置を出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キャリブレーションコンポーネント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LRFCalibr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－同一物体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つの座標系での位置を入力として受け取り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その対応点から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つの座標系の位置・姿勢の関係を出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座標変換コンポーネント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oordTrans2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－キャリブレーションパラメータに基づいてセンサ座標系か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基準座標系への座標変換を実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入力コンポーネント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onsoleIn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－コンソールから入力した値を順に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Port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に出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976480" y="4024440"/>
            <a:ext cx="1414440" cy="10490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578480" y="4024440"/>
            <a:ext cx="1414440" cy="10490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181560" y="4022640"/>
            <a:ext cx="1414800" cy="1052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4600440" y="5495760"/>
            <a:ext cx="1371600" cy="1052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3013200" y="5495760"/>
            <a:ext cx="1371600" cy="1052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6188040" y="5494320"/>
            <a:ext cx="1374840" cy="1054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7"/>
          <a:stretch/>
        </p:blipFill>
        <p:spPr>
          <a:xfrm>
            <a:off x="1181160" y="4013280"/>
            <a:ext cx="1608120" cy="1071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8"/>
          <a:stretch/>
        </p:blipFill>
        <p:spPr>
          <a:xfrm>
            <a:off x="1181160" y="5483160"/>
            <a:ext cx="1616040" cy="1077840"/>
          </a:xfrm>
          <a:prstGeom prst="rect">
            <a:avLst/>
          </a:prstGeom>
          <a:ln w="0">
            <a:noFill/>
          </a:ln>
        </p:spPr>
      </p:pic>
      <p:sp>
        <p:nvSpPr>
          <p:cNvPr id="66" name="テキスト ボックス 11"/>
          <p:cNvSpPr/>
          <p:nvPr/>
        </p:nvSpPr>
        <p:spPr>
          <a:xfrm>
            <a:off x="179280" y="3429000"/>
            <a:ext cx="72723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RFCalibration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の使用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キャリブレーションオブジェクトを用いた絶対的な位置・姿勢の手動キャリブレーショ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移動物体を用いた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RF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間の相対的な位置・姿勢の自動キャリブレーショ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148360" y="2766960"/>
            <a:ext cx="3600360" cy="3070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0000"/>
                </a:solidFill>
                <a:latin typeface="Arial"/>
              </a:rPr>
              <a:t>各コンポーネントの実装や使用方法の詳細はマニュアルを参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9"/>
          <a:stretch/>
        </p:blipFill>
        <p:spPr>
          <a:xfrm>
            <a:off x="8459640" y="333360"/>
            <a:ext cx="43344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0T19:22:47Z</dcterms:created>
  <dc:creator>Tetsuo KOTOKU</dc:creator>
  <dc:description/>
  <dc:language>en-US</dc:language>
  <cp:lastModifiedBy>佐々木毅</cp:lastModifiedBy>
  <dcterms:modified xsi:type="dcterms:W3CDTF">2007-12-17T13:20:27Z</dcterms:modified>
  <cp:revision>26</cp:revision>
  <dc:subject/>
  <dc:title>スライド 1</dc:title>
</cp:coreProperties>
</file>