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RTM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正方形/長方形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コネクタ</a:t>
            </a:r>
            <a:br>
              <a:rPr sz="3600"/>
            </a:b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福森聡哲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小阪正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大道武生（名城大学 大道研究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2880" y="1689120"/>
            <a:ext cx="1752840" cy="118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95680" y="1384200"/>
            <a:ext cx="32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ネクタ（サイ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：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25×30×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m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6"/>
          <p:cNvSpPr/>
          <p:nvPr/>
        </p:nvSpPr>
        <p:spPr>
          <a:xfrm>
            <a:off x="4572000" y="5299200"/>
            <a:ext cx="44956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連絡先：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城大学　大道研究室　福森 聡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502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愛知県名古屋市天白区塩釜口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2-832-115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内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1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2-832-1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mail: m0635024@ccmailg.meijo-u.ac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ch.meijo-u.ac.jp/prof/oomichi/zemi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7"/>
          <p:cNvSpPr/>
          <p:nvPr/>
        </p:nvSpPr>
        <p:spPr>
          <a:xfrm>
            <a:off x="0" y="1371600"/>
            <a:ext cx="4572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ネクタは、機能をモジュール化することによって種々のセンサ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ネットワークに簡易に接続することができるコネクタである。また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用いることによっ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等への接続を省配線化・分散制御を行うことができる。なお，対応モジュール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ンポーネント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/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形式に準拠する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特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通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外部装置との入力・出力の両方ができる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-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３つだけ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機能モジュールを操作する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フェース：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モジュール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N_P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呼ぶ）の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インターフェース社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カー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Visual C++ 6.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ネクタ機能モジュールの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大道研究室製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ネク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sas H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-performa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shop Version 4.03.00.00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センス（公開条件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著作権は名城大学大道研究室にあ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50292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</a:rPr>
              <a:t>磁気センサのパラレル入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03400" y="2886120"/>
            <a:ext cx="1451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ネクタの使用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</a:rPr>
              <a:t>超音波センサのアナログ入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DVC00006" descr=""/>
          <p:cNvPicPr/>
          <p:nvPr/>
        </p:nvPicPr>
        <p:blipFill>
          <a:blip r:embed="rId2"/>
          <a:srcRect l="19932" t="28351" r="25259" b="27321"/>
          <a:stretch/>
        </p:blipFill>
        <p:spPr>
          <a:xfrm>
            <a:off x="5796000" y="3200400"/>
            <a:ext cx="141444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304812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</a:rPr>
              <a:t>ロータリエンコーダ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</a:rPr>
              <a:t>アップダウンカウ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SCF0060" descr=""/>
          <p:cNvPicPr/>
          <p:nvPr/>
        </p:nvPicPr>
        <p:blipFill>
          <a:blip r:embed="rId3"/>
          <a:stretch/>
        </p:blipFill>
        <p:spPr>
          <a:xfrm>
            <a:off x="7315200" y="365760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DSCF0028" descr=""/>
          <p:cNvPicPr/>
          <p:nvPr/>
        </p:nvPicPr>
        <p:blipFill>
          <a:blip r:embed="rId4"/>
          <a:srcRect l="12658" t="10126" r="17722" b="20252"/>
          <a:stretch/>
        </p:blipFill>
        <p:spPr>
          <a:xfrm>
            <a:off x="4038480" y="377208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rcRect l="85591" t="0" r="0" b="93165"/>
          <a:stretch/>
        </p:blipFill>
        <p:spPr>
          <a:xfrm>
            <a:off x="6095880" y="457200"/>
            <a:ext cx="2129040" cy="674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207280" y="380880"/>
            <a:ext cx="936720" cy="67968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8"/>
          <p:cNvSpPr/>
          <p:nvPr/>
        </p:nvSpPr>
        <p:spPr>
          <a:xfrm>
            <a:off x="6286680" y="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ＲＴミドルウエアコンテス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0" y="1676520"/>
          <a:ext cx="2057400" cy="123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1676520"/>
                    <a:ext cx="205740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T06e" descr=""/>
          <p:cNvPicPr/>
          <p:nvPr/>
        </p:nvPicPr>
        <p:blipFill>
          <a:blip r:embed="rId1"/>
          <a:srcRect l="0" t="0" r="0" b="2376"/>
          <a:stretch/>
        </p:blipFill>
        <p:spPr>
          <a:xfrm>
            <a:off x="762120" y="2743200"/>
            <a:ext cx="8153280" cy="3787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モジュ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TCArchitecture" descr="RTCArchitecture.png"/>
          <p:cNvPicPr/>
          <p:nvPr/>
        </p:nvPicPr>
        <p:blipFill>
          <a:blip r:embed="rId2"/>
          <a:stretch/>
        </p:blipFill>
        <p:spPr>
          <a:xfrm>
            <a:off x="4800600" y="338040"/>
            <a:ext cx="4267080" cy="2481480"/>
          </a:xfrm>
          <a:prstGeom prst="rect">
            <a:avLst/>
          </a:prstGeom>
          <a:ln w="0">
            <a:noFill/>
          </a:ln>
        </p:spPr>
      </p:pic>
      <p:sp>
        <p:nvSpPr>
          <p:cNvPr id="61" name="テキスト ボックス 11"/>
          <p:cNvSpPr/>
          <p:nvPr/>
        </p:nvSpPr>
        <p:spPr>
          <a:xfrm>
            <a:off x="152280" y="762120"/>
            <a:ext cx="4286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 Compon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N_P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　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通信よりデータを送信す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　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通信より受信したデータの処理（解釈）を行いバッファに書き込む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 Compon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ネクタ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　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通信よりデータを受信す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　②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受信データを直ちに処理（解釈と実行）を行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通信よりデータを返信す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2743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コントロー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40384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コントロー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8"/>
          <p:cNvSpPr/>
          <p:nvPr/>
        </p:nvSpPr>
        <p:spPr>
          <a:xfrm>
            <a:off x="6286680" y="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ＲＴミドルウエアコンテス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fukumori</cp:lastModifiedBy>
  <dcterms:modified xsi:type="dcterms:W3CDTF">2007-12-17T13:31:19Z</dcterms:modified>
  <cp:revision>33</cp:revision>
  <dc:subject/>
  <dc:title>スライド 1</dc:title>
</cp:coreProperties>
</file>